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move the slide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7E55-66C5-4CE0-A04B-DECCFB32D8E3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3A3F-3871-4DD9-86F9-10D5E37C29AF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AB70E-7556-4FBE-A595-DA3A8EEFD953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8991-DA4F-4BD8-93FA-86307A8783E7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D5103-9542-4D58-8BE3-5CBDF769742B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C4D9-D9BC-4A25-87B0-D6903BFB7B83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723C8-E17E-4D4E-9577-69378A1BE6ED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33209-05A0-4936-9DDE-500DA49E384D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D12D-5AC0-4822-809F-0527F368E916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1605-F743-4EFE-B073-6F3F0AE7C7CC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1950F-ADFB-4B33-9CCD-4871BC581846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45A54-6EC8-4F10-AC4F-76494BD83CC7}" type="slidenum">
              <a:rPr b="0" lang="en-CA" sz="1200" spc="-1" strike="noStrike">
                <a:solidFill>
                  <a:srgbClr val="446eb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9A14-3871-41BF-9FC9-D65A864A6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6DDE-8F32-404B-9E7B-167C1D378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6427-73E1-4126-BE7E-19CCDCF2B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D154-8500-45F9-8C91-E79B17B1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7552D-9FB6-4E8F-A446-9FA3C335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54118-3C62-4AB4-8853-9907E428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DB44-8E2D-4A85-8508-18E61BE8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F4AEA-8B4F-40A9-8FC8-F2AA69880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951BE-1322-4FDF-B51F-80B50DFEF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2E5B9-8C47-4AB8-B8D2-8C66AAEA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F8AE1-4B9E-4695-A3B5-9499B84F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643E-E6DD-4814-801E-017D77958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B1F1-00CF-4583-BBA2-B7D045F9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8D78-AAC3-4A45-9E01-B7CC84D7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77E5A-32A7-4B6D-B7D9-CAB78C3A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0A6F-F6B7-4EA7-A439-37FFFECF9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5796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487120" y="167652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82880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5796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487120" y="3785760"/>
            <a:ext cx="174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D1B2-C9A8-4D75-AD6B-3E80BFF29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5C3-EE6F-4499-AD2C-D42EFBBF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B76-3906-41A3-88B6-ABA7C559E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C239-B08A-4053-A3DA-A21E2DEB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5638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428-0ED3-4092-BE7C-0180CCBE4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40F7-A969-4E8A-AB3F-B4D0897E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1160" y="378576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A78B-17CD-4F77-9FF0-A9077056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880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1160" y="1676520"/>
            <a:ext cx="2639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8800" y="3785760"/>
            <a:ext cx="5410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6DC-4DAC-4E46-A88A-9D2C819E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828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C9C2-E8B4-4E3F-97E0-9EDE4E1BA419}" type="slidenum">
              <a:rPr b="0" lang="en-CA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11"/>
          <p:cNvGrpSpPr/>
          <p:nvPr/>
        </p:nvGrpSpPr>
        <p:grpSpPr>
          <a:xfrm>
            <a:off x="304920" y="165240"/>
            <a:ext cx="8813520" cy="6692760"/>
            <a:chOff x="304920" y="165240"/>
            <a:chExt cx="8813520" cy="6692760"/>
          </a:xfrm>
        </p:grpSpPr>
        <p:sp>
          <p:nvSpPr>
            <p:cNvPr id="6" name="Rectangle 12"/>
            <p:cNvSpPr/>
            <p:nvPr/>
          </p:nvSpPr>
          <p:spPr>
            <a:xfrm>
              <a:off x="304920" y="165240"/>
              <a:ext cx="5973480" cy="101592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7" name="Rectangle 13"/>
            <p:cNvSpPr/>
            <p:nvPr/>
          </p:nvSpPr>
          <p:spPr>
            <a:xfrm>
              <a:off x="469800" y="304920"/>
              <a:ext cx="6059520" cy="110484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1765440" y="1192320"/>
              <a:ext cx="0" cy="5665680"/>
            </a:xfrm>
            <a:prstGeom prst="line">
              <a:avLst/>
            </a:prstGeom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9" name="Freeform 15"/>
            <p:cNvSpPr/>
            <p:nvPr/>
          </p:nvSpPr>
          <p:spPr>
            <a:xfrm>
              <a:off x="1015920" y="1079640"/>
              <a:ext cx="8102520" cy="284472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1015920" y="0"/>
            <a:ext cx="5867640" cy="3822840"/>
            <a:chOff x="1015920" y="0"/>
            <a:chExt cx="5867640" cy="3822840"/>
          </a:xfrm>
        </p:grpSpPr>
        <p:sp>
          <p:nvSpPr>
            <p:cNvPr id="47" name="Rectangle 12"/>
            <p:cNvSpPr/>
            <p:nvPr/>
          </p:nvSpPr>
          <p:spPr>
            <a:xfrm>
              <a:off x="1879560" y="2171880"/>
              <a:ext cx="5004000" cy="1650960"/>
            </a:xfrm>
            <a:prstGeom prst="rect">
              <a:avLst/>
            </a:prstGeom>
            <a:noFill/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8" name="Rectangle 13"/>
            <p:cNvSpPr/>
            <p:nvPr/>
          </p:nvSpPr>
          <p:spPr>
            <a:xfrm>
              <a:off x="2116080" y="1955880"/>
              <a:ext cx="4538880" cy="1650960"/>
            </a:xfrm>
            <a:prstGeom prst="rect">
              <a:avLst/>
            </a:prstGeom>
            <a:noFill/>
            <a:ln w="9360">
              <a:solidFill>
                <a:srgbClr val="446e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49" name="Freeform 14"/>
            <p:cNvSpPr/>
            <p:nvPr/>
          </p:nvSpPr>
          <p:spPr>
            <a:xfrm>
              <a:off x="1015920" y="0"/>
              <a:ext cx="1084320" cy="2768760"/>
            </a:xfrm>
            <a:prstGeom prst="pie">
              <a:avLst/>
            </a:prstGeom>
            <a:noFill/>
            <a:ln w="9360">
              <a:solidFill>
                <a:srgbClr val="446eb2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  <p:sp>
          <p:nvSpPr>
            <p:cNvPr id="50" name="Freeform 15"/>
            <p:cNvSpPr/>
            <p:nvPr/>
          </p:nvSpPr>
          <p:spPr>
            <a:xfrm>
              <a:off x="1219320" y="0"/>
              <a:ext cx="660240" cy="3219480"/>
            </a:xfrm>
            <a:prstGeom prst="pie">
              <a:avLst/>
            </a:prstGeom>
            <a:noFill/>
            <a:ln w="936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46eb2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23e96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446eb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73148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41144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2590920" y="624852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000" spc="-1" strike="noStrike">
                <a:solidFill>
                  <a:srgbClr val="446eb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3A9E-D8F2-4E09-A9E7-B59B0305A208}" type="slidenum">
              <a:rPr b="0" lang="en-CA" sz="1000" spc="-1" strike="noStrike">
                <a:solidFill>
                  <a:srgbClr val="446eb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09320" y="2057400"/>
            <a:ext cx="4343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ing </a:t>
            </a:r>
            <a:br>
              <a:rPr sz="5400"/>
            </a:br>
            <a:r>
              <a:rPr b="0" lang="en-CA" sz="5400" spc="-1" strike="noStrike">
                <a:solidFill>
                  <a:srgbClr val="123e96"/>
                </a:solidFill>
                <a:latin typeface="Arial Black"/>
              </a:rPr>
              <a:t>Facebook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09680" y="4038120"/>
            <a:ext cx="4191120" cy="16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UWindsor students need to know…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o Can See My Profil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834920" y="1285920"/>
            <a:ext cx="6237000" cy="52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Although it can feel private, it is a      </a:t>
            </a:r>
            <a:r>
              <a:rPr b="0" i="1" lang="en-CA" sz="2600" spc="-1" strike="noStrike">
                <a:solidFill>
                  <a:srgbClr val="446eb2"/>
                </a:solidFill>
                <a:latin typeface="Arial"/>
              </a:rPr>
              <a:t>very</a:t>
            </a: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 public forum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eople share photos, look at profiles  in public places, and view friends’, and friends’ of friend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Your “friends” may not have the same level of privacy settings as you thereby making your information accessible to more people than you think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Read the fine print “Facebook’s Privacy Policy” and “Safe Use Principles”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How Well Do You Really Know Your “Friends”?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828440" y="1571760"/>
            <a:ext cx="5815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focus on trying to acquire as many “friends” as possib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selective OR consider “customizing” your privacy for those who are not “close friends”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gnoring a friend request is perfectly okay if you aren’t sur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07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42680" y="1413000"/>
            <a:ext cx="6072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o’s looking over your “friends’” shoulders while they are looking at your profil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ny employers look up potential employees on Facebook to get a better understanding of the applicant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Consider this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446eb2"/>
                </a:solidFill>
                <a:latin typeface="Arial"/>
              </a:rPr>
              <a:t>http://www.cbsnews.com/stories/2006/06/20/eveningnews/main1734920.shtml?source=RSS&amp;attr=SciTech_1734920</a:t>
            </a:r>
            <a:endParaRPr b="0" lang="en-US" sz="1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Think About It . . .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440" y="1676160"/>
            <a:ext cx="5815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Bikini clad, beer chuggers will not impress a recruiter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Even if your profile is closed, people who know people can inadvertently encounter your information –it’s a small world!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600" spc="-1" strike="noStrike">
                <a:solidFill>
                  <a:srgbClr val="446eb2"/>
                </a:solidFill>
                <a:latin typeface="Arial"/>
              </a:rPr>
              <a:t>Parts of your profile can remain accessible to the World Wide Web in more ways than you might realize –a mere “google search” can turn up a lot of information about you from the past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e8fab0"/>
                </a:solidFill>
                <a:latin typeface="Arial Black"/>
              </a:rPr>
              <a:t>Groups and Your Association With Them: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63640" y="1413000"/>
            <a:ext cx="6166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Maybe you work at Tim Horton’s and you join the group “Outraged Tim Horton’s Staff Unite: We know how much it REALLY sucks”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ould this leave a good impression if your boss saw your profile? 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about future employers who might be watch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You, the role model….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828800" y="1676520"/>
            <a:ext cx="5958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erhaps you are in a mentorship role?  (Leader, coach, scout leader, volunteer at a school)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Your mentee goes home and looks you up on Facebook and sees you in unflattering photo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essage are you sending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ttention: Everyone</a:t>
            </a:r>
            <a:r>
              <a:rPr b="0" lang="en-CA" sz="24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828440" y="1412640"/>
            <a:ext cx="6100920" cy="51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lthough your online activity is   not likely to be monitored, you could be held accountable if you are engaged in questionable behaviou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you wouldn’t put on a poster for all to see (including grandparents and professors), you might want to think twice about posting onlin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Did Someone Say Police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14680" y="1676520"/>
            <a:ext cx="628632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t some institutions, following an incident such as a party that gets out of hand, campus and city police have found information or photos on Facebook that may provide incriminating evidence about the individuals involved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Underage drinking, keg parties, acts of vandalis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15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Misinterpretations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ink about how the content on your Facebook could be interpreted or misinterpreted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What may seem like a joke to you and your friends, could be seen as serious by someone else.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63280" y="1413000"/>
            <a:ext cx="5410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tories of Facebook addiction are also common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Did you know that Facebook gets more than 65 billion page views per month and more than half of active users return dail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Some students log in to their profiles several times a da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Remember why you are at University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68152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56880" y="1428840"/>
            <a:ext cx="700092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Help you to connect or reconnect        with friend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tay in touch with long distance relationshi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hare photos, videos, informa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Join groups with like minded people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Addicted to Facebook?</a:t>
            </a:r>
            <a:r>
              <a:rPr b="0" lang="en-CA" sz="32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828800" y="1676160"/>
            <a:ext cx="541008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uch time are you “Facebooking” every day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Are you using it wisely?  Is it controlling your every move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How might this affect your work, school, and social lif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ighting the Addiction</a:t>
            </a:r>
            <a:r>
              <a:rPr b="0" lang="en-CA" sz="2800" spc="-1" strike="noStrike">
                <a:solidFill>
                  <a:srgbClr val="123e96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63280" y="1412640"/>
            <a:ext cx="5545080" cy="50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Face to Face vs. Facebook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Don’t kid yourself –logout or turn off your computer when you’re study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Set goals –what do you need to accomplish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ime allocation –give yourself time limits –use it as a reward after you accomplish your goa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Look at the Bright Side 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63640" y="1412640"/>
            <a:ext cx="54007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reating or refining one’s self identity and values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Use it to build connections with peers and create civil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Connect with people and groups that foster a positive sense of community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446eb2"/>
                </a:solidFill>
                <a:latin typeface="Arial"/>
              </a:rPr>
              <a:t>Learn to use technology in creative and useful ways 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86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800" spc="-1" strike="noStrike">
              <a:solidFill>
                <a:srgbClr val="e8fab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28440" y="1676160"/>
            <a:ext cx="610092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The YouTube clip below helps to illustrate that although there are many positive uses for Facebook, sometimes, users may get carried away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 u="sng">
                <a:solidFill>
                  <a:srgbClr val="e8fab0"/>
                </a:solidFill>
                <a:uFillTx/>
                <a:latin typeface="Arial"/>
                <a:hlinkClick r:id="rId1" action="ppaction://hlinksldjump"/>
              </a:rPr>
              <a:t>http://www.youtube.com/watch?v=nrlSkU0TFL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Don’t Be a Facebook Fool!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A Google search of “Facebook cautions” provides many articles and tips on using Facebook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Be informed and use it wisely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8244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can Facebook Do For You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828440" y="1676520"/>
            <a:ext cx="58863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nvite people to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Community building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Get up-to-the-minute information on people or ev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Make you have a sense of belonging and provide social interaction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66103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How Can Facebook Impact You Negatively?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857240" y="1413000"/>
            <a:ext cx="6143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Friends –knowing too much about    you and you about them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 inappropriate photos and      not having control on photos posted of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Joining groups that may reflect poorly on your choices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Postings on walls that may use         foul language or reflect poorly on you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What Does it Really Matter Anyway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828800" y="1676520"/>
            <a:ext cx="5410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t’s nobody’s business –it’s my private world!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Right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Not really….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396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Privacy? Is there such a thing?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857240" y="1499760"/>
            <a:ext cx="58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Employe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ex-girlfriend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boyfriend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academic adviso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professor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eference for your next job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mother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roommate’s parent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The guy down the street who gives you the creeps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Information to Avoid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828800" y="1676520"/>
            <a:ext cx="541008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Your “Info” page: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birthdate (especially the year of your birth) can make you more susceptible to fraud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address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Contact info, cell phone, etc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Your schedule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46eb2"/>
                </a:solidFill>
                <a:latin typeface="Arial"/>
              </a:rPr>
              <a:t>Groups associated with -(be careful if they are offensive)</a:t>
            </a:r>
            <a:endParaRPr b="0" lang="en-US" sz="26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142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e8fab0"/>
                </a:solidFill>
                <a:latin typeface="Arial Black"/>
              </a:rPr>
              <a:t>From a Professional Perspective</a:t>
            </a:r>
            <a:endParaRPr b="0" lang="en-US" sz="32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5600" y="1413000"/>
            <a:ext cx="5643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s it just for fun, or are there people viewing my profile who may be judging me? 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If you say it to one person on Facebook, you say it to the whole world.”</a:t>
            </a:r>
            <a:r>
              <a:rPr b="0" lang="en-CA" sz="2800" spc="-1" strike="noStrike">
                <a:solidFill>
                  <a:srgbClr val="446eb2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5638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e8fab0"/>
                </a:solidFill>
                <a:latin typeface="Arial Black"/>
              </a:rPr>
              <a:t>But I Have the “Privacy” Setting Turned on</a:t>
            </a:r>
            <a:endParaRPr b="0" lang="en-US" sz="2800" spc="-1" strike="noStrike">
              <a:solidFill>
                <a:srgbClr val="123e96"/>
              </a:solidFill>
              <a:latin typeface="Arial Black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571760" y="1676160"/>
            <a:ext cx="628632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46e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46eb2"/>
                </a:solidFill>
                <a:latin typeface="Arial"/>
              </a:rPr>
              <a:t>Is it set to only “friends” or can the entire “University Community” gain access?</a:t>
            </a:r>
            <a:endParaRPr b="0" lang="en-US" sz="28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People at Windsor and friends” –means ANYONE associated with the U could potentially see your profile –even Alumni –ie employers, professors, etc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Friends of friends”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Only friends” –those you invit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46eb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446eb2"/>
                </a:solidFill>
                <a:latin typeface="Arial"/>
              </a:rPr>
              <a:t>Customize” –most secure</a:t>
            </a:r>
            <a:endParaRPr b="0" lang="en-US" sz="2400" spc="-1" strike="noStrike">
              <a:solidFill>
                <a:srgbClr val="446eb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18:49:47Z</dcterms:created>
  <dc:creator>edcstudent</dc:creator>
  <dc:description/>
  <dc:language>en-US</dc:language>
  <cp:lastModifiedBy>edcuser</cp:lastModifiedBy>
  <dcterms:modified xsi:type="dcterms:W3CDTF">2009-08-20T15:58:06Z</dcterms:modified>
  <cp:revision>130</cp:revision>
  <dc:subject/>
  <dc:title>FACEBOOK  &amp; YOU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221033</vt:lpwstr>
  </property>
</Properties>
</file>